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D22A-DE7D-4662-8166-B015D6A1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3B3-0CC6-4B9D-9468-2EBB8244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A85-1950-4A24-8D03-3F842AC1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A67-B2AD-4406-B496-E05B1024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18B8-1381-4B7C-8471-800BA325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766E-C190-471B-9CC8-B1311A6C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FC6F-2E66-4A9C-88B2-FAB8E3DC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8389-9D13-4BB1-923A-9A0DD553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7353-E4D8-495C-AE6C-F3B18B4D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DE12-0651-4DC8-9946-80CC40BF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9A98-8D40-40D4-A9CA-0B5F787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9C4-73CC-4964-ADA2-E7664171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4930-5EDA-4624-912B-601B70D4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206D-3321-4557-9A08-6075D041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36F2-1C0C-4276-8012-C8BC7E01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5EF5-E3B4-49CF-BFBF-DF18EA68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5BFC-1931-4FC9-AA33-F2739983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BD6-6996-47A0-AEB8-160D70C4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DE1-E533-4905-9343-E10AF628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1F4-47DC-4E7B-A496-5FFAE00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2C2-5EB6-4C2E-8D02-8FE6F0D2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E94-B6F9-481F-8940-CA06D5C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DF5-1194-4D54-9AA7-0415A51D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D5D-D571-4260-B6D0-1831C28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C495-79AE-45CC-9C6B-E0181220F42B}" type="slidenum"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4626-54DF-4552-BC8D-0F119EABBD95}" type="slidenum"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6633"/>
                </a:solidFill>
                <a:latin typeface="Garamond"/>
              </a:rPr>
              <a:t>Вежбе извршавања налог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Покажи бату који пева!</a:t>
            </a:r>
            <a:br>
              <a:rPr sz="3800"/>
            </a:b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А где је бата који свира?</a:t>
            </a:r>
            <a:br>
              <a:rPr sz="3800"/>
            </a:b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Хајде да ти и ја свирамо!( Имитација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1573200" cy="2166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26751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Где је бата који спава?</a:t>
            </a:r>
            <a:br>
              <a:rPr sz="3800"/>
            </a:b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Где је сека која спава?</a:t>
            </a:r>
            <a:br>
              <a:rPr sz="3800"/>
            </a:b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Покажи како ти спаваш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4591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Где је сека? Како сека пева?</a:t>
            </a:r>
            <a:br>
              <a:rPr sz="3800"/>
            </a:b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Покажи бату! Бата једе. Покажи како ти једеш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1998720" cy="3438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03280" y="2565360"/>
            <a:ext cx="17240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6633"/>
                </a:solidFill>
                <a:latin typeface="Garamond"/>
              </a:rPr>
              <a:t>Хајде уради као ја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34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6633"/>
                </a:solidFill>
                <a:latin typeface="Garamond"/>
              </a:rPr>
              <a:t>А сада овако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1924200"/>
            <a:ext cx="7677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6633"/>
                </a:solidFill>
                <a:latin typeface="Garamond"/>
              </a:rPr>
              <a:t>Померај језик као ја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7438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6633"/>
                </a:solidFill>
                <a:latin typeface="Garamond"/>
              </a:rPr>
              <a:t>То је сек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87680" y="1816200"/>
            <a:ext cx="21668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6633"/>
                </a:solidFill>
                <a:latin typeface="Garamond"/>
              </a:rPr>
              <a:t>То је бат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24000" y="2171880"/>
            <a:ext cx="332604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Покажи секу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!</a:t>
            </a:r>
            <a:br>
              <a:rPr sz="3800"/>
            </a:b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Покажи бату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63720" y="2023920"/>
            <a:ext cx="541800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Покажи где је батина глава, где су му руке, ноге, врат, стомак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3909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Где је бати око?(Покажи)</a:t>
            </a:r>
            <a:br>
              <a:rPr sz="3800"/>
            </a:b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Где му је нос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19320" y="1862280"/>
            <a:ext cx="31053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А где су му уста?</a:t>
            </a:r>
            <a:br>
              <a:rPr sz="3800"/>
            </a:b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Покажи где му је коса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19320" y="1862280"/>
            <a:ext cx="31053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6633"/>
                </a:solidFill>
                <a:latin typeface="Garamond"/>
              </a:rPr>
              <a:t>Прстом покажи батино уво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19320" y="1862280"/>
            <a:ext cx="31053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Покажи бату који седи!</a:t>
            </a:r>
            <a:br>
              <a:rPr sz="3800"/>
            </a:br>
            <a:r>
              <a:rPr b="0" lang="sr-CS" sz="3800" spc="-1" strike="noStrike">
                <a:solidFill>
                  <a:srgbClr val="006633"/>
                </a:solidFill>
                <a:latin typeface="Garamond"/>
              </a:rPr>
              <a:t>А где је бата који трчи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172908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639960" y="2346480"/>
            <a:ext cx="18655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12:24Z</dcterms:created>
  <dc:creator>dj</dc:creator>
  <dc:description/>
  <dc:language>en-US</dc:language>
  <cp:lastModifiedBy>a</cp:lastModifiedBy>
  <dcterms:modified xsi:type="dcterms:W3CDTF">2010-05-13T09:20:37Z</dcterms:modified>
  <cp:revision>3</cp:revision>
  <dc:subject/>
  <dc:title>Вежбе извршавања налога</dc:title>
</cp:coreProperties>
</file>